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838-CF57-4466-9BEA-AB660604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D68-D13D-47D8-9360-24EA1CE6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304-61D4-4D27-B31B-A3FC3D5F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AE9-56FC-4D23-A0A2-0E656BF8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CBCA-0679-43B0-BCBD-1EC7FC4F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41C7-A8B4-4458-88B5-334EC1D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66A6-9593-4363-BEC6-340BE6B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66C2-1525-47BD-81D1-ED931B4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CDDA-F4A7-44C2-B111-55EA052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FFB-90CB-4BAD-919D-FBD988D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8912-5ECA-4938-8065-35441FD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47E-47EB-4F21-8912-8E58232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779-B31F-418D-8969-2318CD5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385-91B1-49E0-A622-1963F33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1F8-9205-46D9-A24C-EA21142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5B60-A652-4CC4-BAA7-237E9AF7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6D2-7CFC-4D20-BC23-861256B1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656-A576-407F-AF92-DAA0D909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557-1364-42BE-9621-8DC927B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780-C498-4837-B60F-0775CD6A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148-CC9F-4F05-BED9-3D2B0CB2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76D-9FAA-4AC2-A64A-0947DDC6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E5F-3C66-47C2-89FE-EC4C9B9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F9E-E03D-45B0-8151-30C4EAF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C921-2F00-42C5-8FED-5D78C5854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497-E9CD-4AB9-96FD-E388ABD19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0880" y="1295280"/>
          <a:ext cx="8540640" cy="4014720"/>
        </p:xfrm>
        <a:graphic>
          <a:graphicData uri="http://schemas.openxmlformats.org/drawingml/2006/table">
            <a:tbl>
              <a:tblPr/>
              <a:tblGrid>
                <a:gridCol w="4270680"/>
                <a:gridCol w="426996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imp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Continuo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, always, often, sometimes, seldom, never; every day</a:t>
                      </a: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eek, month, year, Sunday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 does      V1 / V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the moment, 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/is/are                  Ving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199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4270320"/>
                <a:gridCol w="427032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ways, usually, every year, of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Human beings/kill/our pla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Animal/disapp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A man/not cut down/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People/cut down/many 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I/plant/a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Students/plant/t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solve/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He/live/among l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cientists/al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She /not think/about environ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The Dead Sea/become/smal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Student/take/the rubbish/to the local recycling cen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We/clean/our p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The average person/throw away/about 70 food c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The forests/disappear/all over worl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He/keep/himself informed/about environmental proble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